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53322-7BF1-424F-B323-D23A472EC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930A6-2992-46DF-A3B8-C4DE2833B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800C7-7DE2-45D0-BFAF-59B46CA33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3A0F6-65C3-4AB2-823F-CA11B2044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92581-C293-442B-B9BF-7D26D7907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AF06A-048A-497E-ADAC-F8B085151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58362-CA99-49B3-A9AC-A479506B0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3B7A1-640A-4AED-B52C-1019E054E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F243A-7CE4-41FB-AC79-BA2628885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19A15-EE5A-4EE6-BC46-14B2034B1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7D72C-C587-4304-8D07-7AF8F5054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643D5-3421-4A01-89C5-FE7968A96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EF408-4E84-4736-8856-D2A84EE634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400" y="-1371960"/>
            <a:ext cx="7772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MA" sz="4400" spc="-1" strike="noStrike">
                <a:solidFill>
                  <a:srgbClr val="ff3300"/>
                </a:solidFill>
                <a:latin typeface="Arial"/>
              </a:rPr>
              <a:t>التنف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0" y="1219320"/>
            <a:ext cx="815328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MA" sz="2000" spc="-1" strike="noStrike">
                <a:solidFill>
                  <a:srgbClr val="ff3300"/>
                </a:solidFill>
                <a:latin typeface="Arial"/>
              </a:rPr>
              <a:t>1-</a:t>
            </a:r>
            <a:r>
              <a:rPr b="0" lang="ar-MA" sz="2000" spc="-1" strike="noStrike">
                <a:solidFill>
                  <a:srgbClr val="ff3300"/>
                </a:solidFill>
                <a:latin typeface="Arial"/>
              </a:rPr>
              <a:t>تحليل الموضوع</a:t>
            </a:r>
            <a:r>
              <a:rPr b="0" lang="ar-MA" sz="2000" spc="-1" strike="noStrike">
                <a:solidFill>
                  <a:srgbClr val="ff33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MA" sz="1600" spc="-1" strike="noStrike">
                <a:solidFill>
                  <a:srgbClr val="000000"/>
                </a:solidFill>
                <a:latin typeface="Arial"/>
              </a:rPr>
              <a:t>الهدف: إبراز التبادلات الغازية التنفسية عند الإنسان</a:t>
            </a:r>
            <a:r>
              <a:rPr b="0" lang="ar-MA" sz="1600" spc="-1" strike="noStrike">
                <a:solidFill>
                  <a:srgbClr val="000000"/>
                </a:solidFill>
                <a:latin typeface="Arial"/>
              </a:rPr>
              <a:t>.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MA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ar-MA" sz="1600" spc="-1" strike="noStrike">
                <a:solidFill>
                  <a:srgbClr val="000000"/>
                </a:solidFill>
                <a:latin typeface="Arial"/>
              </a:rPr>
              <a:t>الفءة المستهدفة:-الاولى إعدادي</a:t>
            </a:r>
            <a:r>
              <a:rPr b="0" lang="ar-MA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MA" sz="16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MA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ar-MA" sz="1600" spc="-1" strike="noStrike">
                <a:solidFill>
                  <a:srgbClr val="000000"/>
                </a:solidFill>
                <a:latin typeface="Arial"/>
              </a:rPr>
              <a:t>المضمون : -يتعرف المتعلم عن طرح ثناءي اكسيد الكربون في الهواء المتزفر من خلال تجربة</a:t>
            </a:r>
            <a:r>
              <a:rPr b="0" lang="ar-MA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MA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MA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ar-MA" sz="1600" spc="-1" strike="noStrike">
                <a:solidFill>
                  <a:srgbClr val="000000"/>
                </a:solidFill>
                <a:latin typeface="Arial"/>
              </a:rPr>
              <a:t>يتعرف المتعلم عن اخد الأكسجين من هواء الشهيق من خلال مناولة</a:t>
            </a:r>
            <a:r>
              <a:rPr b="0" lang="ar-MA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MA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MA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ar-MA" sz="1600" spc="-1" strike="noStrike">
                <a:solidFill>
                  <a:srgbClr val="000000"/>
                </a:solidFill>
                <a:latin typeface="Arial"/>
              </a:rPr>
              <a:t>يستنتج حدوت تبادلات غازية تنفية بين الإنسان ووسط عيشه</a:t>
            </a:r>
            <a:r>
              <a:rPr b="0" lang="ar-MA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MA" sz="1600" spc="-1" strike="noStrike">
                <a:solidFill>
                  <a:srgbClr val="000000"/>
                </a:solidFill>
                <a:latin typeface="Arial"/>
              </a:rPr>
              <a:t>.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MA" sz="1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MA" sz="1600" spc="-1" strike="noStrike">
                <a:solidFill>
                  <a:srgbClr val="000000"/>
                </a:solidFill>
                <a:latin typeface="Arial"/>
              </a:rPr>
              <a:t>الإنسان                         وسط العيش</a:t>
            </a:r>
            <a:r>
              <a:rPr b="0" lang="ar-MA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MA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ar-MA" sz="1600" spc="-1" strike="noStrike">
                <a:solidFill>
                  <a:srgbClr val="000000"/>
                </a:solidFill>
                <a:latin typeface="Arial"/>
              </a:rPr>
              <a:t>الوسط:   حجرة القسم</a:t>
            </a:r>
            <a:r>
              <a:rPr b="0" lang="ar-MA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MA" sz="1600" spc="-1" strike="noStrike">
                <a:solidFill>
                  <a:srgbClr val="000000"/>
                </a:solidFill>
                <a:latin typeface="Arial"/>
              </a:rPr>
              <a:t>الوساءل : أدواة مخبرية -  وثاءق الكتاب المدرسي</a:t>
            </a:r>
            <a:r>
              <a:rPr b="0" lang="ar-MA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MA" sz="1600" spc="-1" strike="noStrike">
                <a:solidFill>
                  <a:srgbClr val="000000"/>
                </a:solidFill>
                <a:latin typeface="Arial"/>
              </a:rPr>
              <a:t>-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MA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38098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80920" y="365760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MA" sz="4400" spc="-1" strike="noStrike">
                <a:solidFill>
                  <a:srgbClr val="000000"/>
                </a:solidFill>
                <a:latin typeface="Arial"/>
              </a:rPr>
              <a:t>جدول</a:t>
            </a:r>
            <a:r>
              <a:rPr b="0" lang="ar-MA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685800" y="1371600"/>
          <a:ext cx="8458200" cy="4976640"/>
        </p:xfrm>
        <a:graphic>
          <a:graphicData uri="http://schemas.openxmlformats.org/drawingml/2006/table">
            <a:tbl>
              <a:tblPr/>
              <a:tblGrid>
                <a:gridCol w="1752480"/>
                <a:gridCol w="1676520"/>
                <a:gridCol w="1600200"/>
                <a:gridCol w="3429000"/>
              </a:tblGrid>
              <a:tr h="76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M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كاشف</a:t>
                      </a:r>
                      <a:r>
                        <a:rPr b="0" lang="ar-M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M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فيلم</a:t>
                      </a:r>
                      <a:r>
                        <a:rPr b="0" lang="ar-M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M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ملخص  أو صورة</a:t>
                      </a:r>
                      <a:r>
                        <a:rPr b="0" lang="ar-M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M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فهرس</a:t>
                      </a:r>
                      <a:r>
                        <a:rPr b="0" lang="ar-M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M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كاشف</a:t>
                      </a:r>
                      <a:r>
                        <a:rPr b="0" lang="ar-M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ar-M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M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M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–</a:t>
                      </a:r>
                      <a:r>
                        <a:rPr b="0" lang="ar-M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مدخل علمي</a:t>
                      </a:r>
                      <a:r>
                        <a:rPr b="0" lang="ar-M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6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M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كاشف</a:t>
                      </a:r>
                      <a:r>
                        <a:rPr b="0" lang="ar-M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ar-M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M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كاشف</a:t>
                      </a:r>
                      <a:r>
                        <a:rPr b="0" lang="ar-M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ar-M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M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         </a:t>
                      </a: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ar-M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M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M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M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M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- </a:t>
                      </a:r>
                      <a:r>
                        <a:rPr b="0" lang="ar-M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إبراز التبادلات الغازية التنفسية بين الكاءن الحي ووسط عيشه</a:t>
                      </a:r>
                      <a:r>
                        <a:rPr b="0" lang="ar-M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ar-M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M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</a:t>
                      </a:r>
                      <a:r>
                        <a:rPr b="0" lang="ar-M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تجربة الكشف عن طرح تناءي اكسيد الكربون في هواء الزفير</a:t>
                      </a:r>
                      <a:r>
                        <a:rPr b="0" lang="ar-M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 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M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0" lang="ar-M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إستنتاج </a:t>
                      </a:r>
                      <a:r>
                        <a:rPr b="0" lang="ar-M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ar-M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:      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M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</a:t>
                      </a:r>
                      <a:r>
                        <a:rPr b="0" lang="ar-M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مناولة الكشف عن أخد  الأكسجين من الهواء</a:t>
                      </a:r>
                      <a:r>
                        <a:rPr b="0" lang="ar-M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ar-M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   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M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0" lang="ar-M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إستنتاج </a:t>
                      </a:r>
                      <a:r>
                        <a:rPr b="0" lang="ar-M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ar-M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:        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M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كاشف</a:t>
                      </a:r>
                      <a:r>
                        <a:rPr b="0" lang="ar-M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r>
                        <a:rPr b="0" lang="ar-M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M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M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- </a:t>
                      </a:r>
                      <a:r>
                        <a:rPr b="0" lang="ar-M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حصيلة</a:t>
                      </a:r>
                      <a:r>
                        <a:rPr b="0" lang="ar-M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ar-M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             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" name="">
            <a:hlinkClick r:id="" action="ppaction://hlinkshowjump?jump=nextslide"/>
          </p:cNvPr>
          <p:cNvSpPr/>
          <p:nvPr/>
        </p:nvSpPr>
        <p:spPr>
          <a:xfrm>
            <a:off x="1447920" y="2819520"/>
            <a:ext cx="75960" cy="75960"/>
          </a:xfrm>
          <a:custGeom>
            <a:avLst/>
            <a:gdLst>
              <a:gd name="textAreaLeft" fmla="*/ 4680 w 75960"/>
              <a:gd name="textAreaRight" fmla="*/ 71280 w 75960"/>
              <a:gd name="textAreaTop" fmla="*/ 4680 h 75960"/>
              <a:gd name="textAreaBottom" fmla="*/ 7128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301"/>
                </a:moveTo>
                <a:lnTo>
                  <a:pt x="4707" y="7301"/>
                </a:lnTo>
                <a:lnTo>
                  <a:pt x="5090" y="7667"/>
                </a:lnTo>
                <a:lnTo>
                  <a:pt x="14299" y="7667"/>
                </a:lnTo>
                <a:lnTo>
                  <a:pt x="14856" y="8224"/>
                </a:lnTo>
                <a:lnTo>
                  <a:pt x="14856" y="8772"/>
                </a:lnTo>
                <a:lnTo>
                  <a:pt x="16701" y="8772"/>
                </a:lnTo>
                <a:lnTo>
                  <a:pt x="17067" y="8224"/>
                </a:lnTo>
                <a:lnTo>
                  <a:pt x="17806" y="8224"/>
                </a:lnTo>
                <a:lnTo>
                  <a:pt x="17806" y="13376"/>
                </a:lnTo>
                <a:lnTo>
                  <a:pt x="17067" y="13376"/>
                </a:lnTo>
                <a:lnTo>
                  <a:pt x="16701" y="12828"/>
                </a:lnTo>
                <a:lnTo>
                  <a:pt x="14856" y="12828"/>
                </a:lnTo>
                <a:lnTo>
                  <a:pt x="14856" y="14107"/>
                </a:lnTo>
                <a:lnTo>
                  <a:pt x="5273" y="14107"/>
                </a:lnTo>
                <a:lnTo>
                  <a:pt x="5273" y="9877"/>
                </a:lnTo>
                <a:lnTo>
                  <a:pt x="5090" y="9877"/>
                </a:lnTo>
                <a:lnTo>
                  <a:pt x="4707" y="10243"/>
                </a:lnTo>
                <a:lnTo>
                  <a:pt x="3794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800" bIns="19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MA" sz="4400" spc="-1" strike="noStrike">
                <a:solidFill>
                  <a:srgbClr val="000000"/>
                </a:solidFill>
                <a:latin typeface="Arial"/>
              </a:rPr>
              <a:t>الكاشف </a:t>
            </a:r>
            <a:r>
              <a:rPr b="0" lang="ar-MA" sz="4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MA" sz="2400" spc="-1" strike="noStrike">
                <a:solidFill>
                  <a:srgbClr val="000000"/>
                </a:solidFill>
                <a:latin typeface="Arial"/>
              </a:rPr>
              <a:t>يتنفس الإنسان في الوسط الهواءي حيث يأخد منه الأكسجين ويطرح فيه ثناءي أكسيد الكربون</a:t>
            </a:r>
            <a:r>
              <a:rPr b="0" lang="ar-MA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MA" sz="2400" spc="-1" strike="noStrike">
                <a:solidFill>
                  <a:srgbClr val="ff3300"/>
                </a:solidFill>
                <a:latin typeface="Arial"/>
              </a:rPr>
              <a:t>فكيف يتم إبراز التبادلات الغازية التنفسية بين الإنسان ووسط عيشه 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MA" sz="4400" spc="-1" strike="noStrike">
                <a:solidFill>
                  <a:srgbClr val="000000"/>
                </a:solidFill>
                <a:latin typeface="Arial"/>
              </a:rPr>
              <a:t>الكاشف </a:t>
            </a:r>
            <a:r>
              <a:rPr b="0" lang="ar-MA" sz="4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MA" sz="3200" spc="-1" strike="noStrike">
                <a:solidFill>
                  <a:srgbClr val="000000"/>
                </a:solidFill>
                <a:latin typeface="Arial"/>
              </a:rPr>
              <a:t>يطرح اللإنسان في الهواء الزفير  تناءي أكسيد الكربون ويأخد من الهواء الأكسجين ,</a:t>
            </a:r>
            <a:r>
              <a:rPr b="0" lang="ar-MA" sz="3200" spc="-1" strike="noStrike">
                <a:solidFill>
                  <a:srgbClr val="ff3300"/>
                </a:solidFill>
                <a:latin typeface="Arial"/>
              </a:rPr>
              <a:t>نقول أنه تحدت تبادلات غازية</a:t>
            </a:r>
            <a:r>
              <a:rPr b="0" lang="ar-MA" sz="3200" spc="-1" strike="noStrike">
                <a:solidFill>
                  <a:srgbClr val="000000"/>
                </a:solidFill>
                <a:latin typeface="Arial"/>
              </a:rPr>
              <a:t> تنفسية بين الإنسان ووسط عيشه</a:t>
            </a:r>
            <a:r>
              <a:rPr b="0" lang="ar-M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MA" sz="3200" spc="-1" strike="noStrike">
                <a:solidFill>
                  <a:srgbClr val="000000"/>
                </a:solidFill>
                <a:latin typeface="Arial"/>
              </a:rPr>
              <a:t>.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mid</cp:lastModifiedBy>
  <dcterms:modified xsi:type="dcterms:W3CDTF">2010-10-26T07:39:58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